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87E-BCA3-4470-8EB3-B2E785B5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24B-8C53-496E-B586-F56528B0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139-791D-4BA7-A480-1F45F232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C83-4417-412D-A2BA-2BCD82D9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E92B-66B2-406A-9C4C-3B590F25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A009-94DB-446C-8E8C-4161C0BB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7192-1608-4E68-BBF3-0047475A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C2D3-75EC-45DE-8FFF-6AA839FA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C69E-9B87-43F6-9F2B-CFB18AB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7D9B-99F8-4ADB-AAE7-E4F91245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C52D-5794-4550-A109-40FEA53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F3A-0D29-4C7D-B53C-339E5B44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6BE5-780B-49B6-A93B-B939D31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19C4-A2CF-4459-BD5A-DF6307C5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630-3DD1-410E-89A7-46704891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1C79-D164-4C81-B484-E5BC1CE8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DCDC-A556-443A-81FA-7E1444BD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F6A-9A77-41A7-8C3D-957CB1F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532-5CEC-4002-8499-9072815F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7260-6C57-4657-A7D9-30CE73EA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80F-3086-4765-BD98-8C9A8235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F1CD-C6EA-4546-80CB-374F462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40E6-9A04-4696-B0F1-EE18A25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CB1-EA1E-4752-BCF4-7E200207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F17B-6678-4979-8043-4D83B6DF7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C7AD-C716-4A4F-B25F-B769290F7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Pass the Basket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words your students need to work on in the basket.  Play musical vocabulary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Pass the Bask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 basket of vocabulary words to a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while students pass the basket.  When the music stops, the teacher chooses a word from the basket to read to the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then gives the correct definition for the w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rrect definition is read the student keeps the word until the end of the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efinition and let students give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use the word in a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students spell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38:00Z</dcterms:modified>
  <cp:revision>5</cp:revision>
  <dc:subject/>
  <dc:title>Light Up the World A vocabulary game from Mentoring Minds Grades 1-4</dc:title>
</cp:coreProperties>
</file>